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02B16-B694-4752-AC7B-0A121BBE4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EF18-9844-4AB1-90D4-A967D6BD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97C6A-1577-4376-89CD-DA45A799E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4556F-E3CD-4A8C-A7F5-D2B9B5A29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68CE-87BE-44BA-9389-5B38D65F8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E4D0-4933-4CD2-891F-DCBE1084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3E649-F6F6-42A9-B6AA-2026A9BF7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DDE6D-4DFE-4243-B55A-070CA9F55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9044-A5A4-4363-8485-C4AF3114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428B-70B0-4392-ABC2-DC23B2BC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5A87-1234-44CB-BF51-1D4951BD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4D37-9A95-4BA0-9BBF-75885ACD5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3AC3-0D4C-481C-92C9-5370D01C9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omic Sans MS"/>
              </a:rPr>
              <a:t>Vorstellung von Projekten</a:t>
            </a:r>
            <a:br>
              <a:rPr sz="1600"/>
            </a:br>
            <a:r>
              <a:rPr b="1" lang="de-DE" sz="1600" spc="-1" strike="noStrike">
                <a:solidFill>
                  <a:srgbClr val="000000"/>
                </a:solidFill>
                <a:latin typeface="Comic Sans MS"/>
              </a:rPr>
              <a:t>                                                     Gew. Schule Schwäb. Gmünd</a:t>
            </a:r>
            <a:endParaRPr b="0" lang="en-US" sz="1600" spc="-1" strike="noStrike">
              <a:solidFill>
                <a:srgbClr val="000000"/>
              </a:solidFill>
              <a:latin typeface="Times New Roman"/>
            </a:endParaRPr>
          </a:p>
        </p:txBody>
      </p:sp>
      <p:sp>
        <p:nvSpPr>
          <p:cNvPr id="42" name="PlaceHolder 2"/>
          <p:cNvSpPr>
            <a:spLocks noGrp="1"/>
          </p:cNvSpPr>
          <p:nvPr>
            <p:ph/>
          </p:nvPr>
        </p:nvSpPr>
        <p:spPr>
          <a:xfrm>
            <a:off x="762120" y="2666520"/>
            <a:ext cx="7772400" cy="3886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Lehrjahr: Projekt Weißbrot</a:t>
            </a:r>
            <a:br>
              <a:rPr sz="3200"/>
            </a:b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 Lehrjahr: Projekt Spezialbrot/ gebackener Snac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ormationen weitergebe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Arial"/>
              </a:rPr>
              <a:t>Präsentieren Sie anschließend Ihr Brot Ihren Mitschülern und stellen Sie Rezeptur und Herstellungshinweise sowie auftretende Fehler und Schwierigkeiten dar. Die Präsentation wird benote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t vom Arbeitsblat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Wie bei jeder Projektbewertung werden auch die Bereiche Pünktlichkeit, Zuverlässigkeit, Hygiene, Arbeitseinsatz … bewerte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Tipp:  Um im Team eine gute Zusammenarbeit zu gewährleisten empfehlen wir die Telefonnummern auszutausche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graphicFrame>
        <p:nvGraphicFramePr>
          <p:cNvPr id="65" name=""/>
          <p:cNvGraphicFramePr/>
          <p:nvPr/>
        </p:nvGraphicFramePr>
        <p:xfrm>
          <a:off x="228600" y="1397160"/>
          <a:ext cx="8381880" cy="4063680"/>
        </p:xfrm>
        <a:graphic>
          <a:graphicData uri="http://schemas.openxmlformats.org/drawingml/2006/table">
            <a:tbl>
              <a:tblPr/>
              <a:tblGrid>
                <a:gridCol w="685800"/>
                <a:gridCol w="1447920"/>
                <a:gridCol w="1143000"/>
                <a:gridCol w="1295280"/>
                <a:gridCol w="762120"/>
                <a:gridCol w="1066680"/>
                <a:gridCol w="990720"/>
                <a:gridCol w="990360"/>
              </a:tblGrid>
              <a:tr h="58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nzelarbeit Ablaufschem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beit in Backstub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äsentation Br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äs.-mapp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beits-verhalte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ch-schnit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1371600" y="4572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notung Projekt Weißbr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2. Projekt Spezialbrote – gebackene Snack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eitlicher Rahmen: die letzten beiden BTW-Schultage im 2. Schuljahr</a:t>
            </a:r>
            <a:br>
              <a:rPr sz="3200"/>
            </a:b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rkauf: Ende September im 3. Schuljah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Zielangab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Im Rahmen des Projektes überlegen Sie sich gute, außergewöhnliche Spezialbrote und Snacks. Aus allen entwickelten Produkten werden zum Ende des Schuljahres von einer Jury die besten, einfallsreichsten ausgewählt und im Rahmen der „Herbst-Impressionen“ auf dem Marktplatz verkauft. </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ie Gewinner backen und verkaufen ihre Brote am 26. bzw. 27. September selbst. </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r Erlös wird gespend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ufgabe: Spezialbrot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ntwickeln Sie ein Spezialbrot mit Zugabe von besonderen Rohstoffen aus einem Mischbrotteig, das Verhältnis R/W sollte zwischen 70/30 und 40/60 liegen.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lgende Rohstoffe sind in der Backstube vorhanden: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ufgabe: Snack</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ntwickeln Sie einen besonderen gebackenen Snack, der sich gut zum Frischverzehr eignet. .....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ie Teiggröße sollte 20 Gebäckstücke  ergeben</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lgende Rohstoffe stehen Ihnen in der Backstube zur Verfügung: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m nächsten BTW Schultag können 2 Rezepturen für Spezialbrote und 1 Rezeptur für einen Snack ausprobiert werden. Die hergestellten Produkte können Sie mit nach Hause nehmen. </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Ihr Lehrerteam wünscht Ihnen viele gute Ideen und viel Erfol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rgehensweise Projekt Spezialbrote + Snacks</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1752480"/>
            <a:ext cx="861048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Ende 2. Lehrjahr</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vorletzter BTW-Termin: Schüler-Teams probieren ihre Rezepturen aus (ohne Benotu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letzter BTW-Termin: Die (optimierten) Produkte werden hergestellt und tiefgekühl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die Produkte aller Parallel-Klassen werden von einer Jury bewertet, die „Sieger“ ermittelt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Anfang 3. Lehrjahr</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Am Freitag vor dem Event werden die Brote gebacken, die Snacks werden vor Ort im Backmobil hergestellt. Nur die „Sieger“ nehmen tei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lder vom letzten Jah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0" name="Herbstimpressionen07%20003" descr=""/>
          <p:cNvPicPr/>
          <p:nvPr/>
        </p:nvPicPr>
        <p:blipFill>
          <a:blip r:embed="rId1"/>
          <a:stretch/>
        </p:blipFill>
        <p:spPr>
          <a:xfrm>
            <a:off x="1143000" y="1447920"/>
            <a:ext cx="7543800" cy="56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838080" algn="ct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jekt Weißbrot</a:t>
            </a:r>
            <a:endParaRPr b="0" lang="en-US" sz="4400" spc="-1" strike="noStrike">
              <a:solidFill>
                <a:srgbClr val="000000"/>
              </a:solidFill>
              <a:latin typeface="Times New Roman"/>
            </a:endParaRPr>
          </a:p>
        </p:txBody>
      </p:sp>
      <p:sp>
        <p:nvSpPr>
          <p:cNvPr id="44" name=""/>
          <p:cNvSpPr/>
          <p:nvPr/>
        </p:nvSpPr>
        <p:spPr>
          <a:xfrm>
            <a:off x="304920" y="2514600"/>
            <a:ext cx="8305560" cy="3124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7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Comic Sans MS"/>
              </a:rPr>
              <a:t>„</a:t>
            </a:r>
            <a:r>
              <a:rPr b="0" lang="en-US" sz="4400" spc="-1" strike="noStrike">
                <a:solidFill>
                  <a:srgbClr val="000000"/>
                </a:solidFill>
                <a:latin typeface="Comic Sans MS"/>
              </a:rPr>
              <a:t>richtiges“</a:t>
            </a:r>
            <a:r>
              <a:rPr b="0" lang="en-US" sz="4400" spc="-1" strike="noStrike">
                <a:solidFill>
                  <a:srgbClr val="000000"/>
                </a:solidFill>
                <a:latin typeface="Times New Roman"/>
              </a:rPr>
              <a:t> </a:t>
            </a:r>
            <a:r>
              <a:rPr b="0" lang="en-US" sz="4400" spc="-1" strike="noStrike">
                <a:solidFill>
                  <a:srgbClr val="000000"/>
                </a:solidFill>
                <a:latin typeface="Comic Sans MS"/>
              </a:rPr>
              <a:t>Projekt im ersten Lehrjahr</a:t>
            </a:r>
            <a:endParaRPr b="0" lang="en-US" sz="4400" spc="-1" strike="noStrike">
              <a:solidFill>
                <a:srgbClr val="000000"/>
              </a:solidFill>
              <a:latin typeface="Times New Roman"/>
            </a:endParaRPr>
          </a:p>
          <a:p>
            <a:pPr marL="457200" indent="-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m Lernfeld 5 bei folgendem Ablauf:</a:t>
            </a:r>
            <a:r>
              <a:rPr b="0" lang="en-US" sz="4400" spc="-1" strike="noStrike">
                <a:solidFill>
                  <a:srgbClr val="000000"/>
                </a:solidFill>
                <a:latin typeface="Comic Sans MS"/>
              </a:rPr>
              <a:t> LF1 =&gt; LF2 =&gt; LF5 =&gt; LF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2" name="Herbstimpressionen07%20008" descr=""/>
          <p:cNvPicPr/>
          <p:nvPr/>
        </p:nvPicPr>
        <p:blipFill>
          <a:blip r:embed="rId1"/>
          <a:stretch/>
        </p:blipFill>
        <p:spPr>
          <a:xfrm>
            <a:off x="0" y="-341280"/>
            <a:ext cx="9597960" cy="719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4" name="Herbstimpressionen07%20015" descr=""/>
          <p:cNvPicPr/>
          <p:nvPr/>
        </p:nvPicPr>
        <p:blipFill>
          <a:blip r:embed="rId1"/>
          <a:stretch/>
        </p:blipFill>
        <p:spPr>
          <a:xfrm>
            <a:off x="0" y="-341280"/>
            <a:ext cx="9597960" cy="719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6" name="Herbstimpressionen07%20040" descr=""/>
          <p:cNvPicPr/>
          <p:nvPr/>
        </p:nvPicPr>
        <p:blipFill>
          <a:blip r:embed="rId1"/>
          <a:stretch/>
        </p:blipFill>
        <p:spPr>
          <a:xfrm>
            <a:off x="-304920" y="-341280"/>
            <a:ext cx="9598320" cy="719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pic>
        <p:nvPicPr>
          <p:cNvPr id="87" name="Herbstimpressionen07%20070" descr=""/>
          <p:cNvPicPr/>
          <p:nvPr/>
        </p:nvPicPr>
        <p:blipFill>
          <a:blip r:embed="rId1"/>
          <a:stretch/>
        </p:blipFill>
        <p:spPr>
          <a:xfrm>
            <a:off x="0" y="0"/>
            <a:ext cx="9597960" cy="719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5" name=""/>
          <p:cNvSpPr/>
          <p:nvPr/>
        </p:nvSpPr>
        <p:spPr>
          <a:xfrm>
            <a:off x="0" y="25560"/>
            <a:ext cx="9144000" cy="70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Projekt Weißbr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Arial"/>
              </a:rPr>
              <a:t>         </a:t>
            </a:r>
            <a:r>
              <a:rPr b="1" lang="de-DE" sz="1100" spc="-1" strike="noStrike">
                <a:solidFill>
                  <a:srgbClr val="000000"/>
                </a:solidFill>
                <a:latin typeface="Arial"/>
                <a:ea typeface="Arial"/>
              </a:rPr>
              <a:t>Ziel: </a:t>
            </a:r>
            <a:r>
              <a:rPr b="1" lang="de-DE" sz="1100" spc="-1" strike="noStrike">
                <a:solidFill>
                  <a:srgbClr val="000000"/>
                </a:solidFill>
                <a:latin typeface="Arial"/>
                <a:ea typeface="Arial"/>
              </a:rPr>
              <a:t>	</a:t>
            </a:r>
            <a:r>
              <a:rPr b="1" lang="de-DE" sz="1100" spc="-1" strike="noStrike">
                <a:solidFill>
                  <a:srgbClr val="000000"/>
                </a:solidFill>
                <a:latin typeface="Arial"/>
                <a:ea typeface="Arial"/>
              </a:rPr>
              <a:t>Sie erstellen im Team im nächsten Unterricht in der Backstube selbstständig drei freigeschobene Weißbrote </a:t>
            </a:r>
            <a:br>
              <a:rPr sz="1100"/>
            </a:br>
            <a:r>
              <a:rPr b="1" lang="de-DE" sz="1100" spc="-1" strike="noStrike">
                <a:solidFill>
                  <a:srgbClr val="000000"/>
                </a:solidFill>
                <a:latin typeface="Arial"/>
                <a:ea typeface="Arial"/>
              </a:rPr>
              <a:t>	</a:t>
            </a:r>
            <a:r>
              <a:rPr b="1" lang="de-DE" sz="1100" spc="-1" strike="noStrike">
                <a:solidFill>
                  <a:srgbClr val="000000"/>
                </a:solidFill>
                <a:latin typeface="Arial"/>
                <a:ea typeface="Arial"/>
              </a:rPr>
              <a:t>(kein Baguette) mit je 500 g Gebäckgewich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Arial"/>
              </a:rPr>
              <a:t>Arbeitsauftrag Einzelarbei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Informieren Sie sich bis zur nächsten Theoriestunde in Ihrem Betrieb zum Thema Weißbrot (Fachgespräch mit Ausbilder).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otieren Sie ein Rezept und alle wichtigen Herstellungshinweise (Knetzeit, Teigtemperatur, Teigruhe, …, Backzeit, Backtemperatur, Schwaden, Zu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Im nächsten Theorieunterricht erstellen Sie daraus ein Ablaufschema mit allen Produktionsdaten. Dieses wird beno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Arial"/>
              </a:rPr>
              <a:t>Arbeitsauftrag Gruppenarbei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Einigen Sie sich in Ihrem Team auf ein Rez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Erstellen Sie daraus eine Präsentationsmappe. Diese soll mindestens umfasse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gt; Namen der Gruppenmitglieder, Projektthema, Herstellungstermi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gt; Rezeptur mit Herstellungshinweis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gt; Fließschem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ie Präsentationsmappe wird beno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In der Backstube stellen Sie selbständig im Team die Weißbrote nach Ihren Herstellungshinweisen her. Die Teamarbeit in der Backstube wird beno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In der Backstube sind die üblichen Zutaten einschließlich eines Brotbackmittels vorhanden. Spezielle Zutaten müssen selbst mitgebracht werde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Arial"/>
              </a:rPr>
              <a:t>Auswertu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Beurteilen Sie Ihr selbst hergestelltes Weißbrot im Team. Gehen Sie insbesondere auf mögliche Fehler ein (mit Skizze oder Foto). Versuchen Sie die Fehlerursachen zu ermitteln. Halten Sie Fehler und Ursachen schriftlich fest und fügen Sie diese Ausarbeitung Ihrer Präsentationsmappe be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Abschließend  werden Ihre Brote nach dem DLG-Schema bewer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Heften Sie auch das ausgefüllte DLG-Schema in Ihre Präsentationsmap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Präsentieren Sie anschließend Ihr Brot Ihren Mitschülern und stellen Sie Rezeptur und Herstellungshinweise sowie auftretende Fehler und Schwierigkeiten dar. Die Präsentation wird beno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Wie bei jeder Projektbewertung werden auch die Bereiche Pünktlichkeit, Zuverlässigkeit, Hygiene, Arbeitseinsatz … bewerte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1" lang="de-DE" sz="1100" spc="-1" strike="noStrike">
                <a:solidFill>
                  <a:srgbClr val="000000"/>
                </a:solidFill>
                <a:latin typeface="Arial"/>
                <a:ea typeface="Arial"/>
              </a:rPr>
              <a:t>Tipp:</a:t>
            </a:r>
            <a:r>
              <a:rPr b="0" lang="de-DE" sz="1100" spc="-1" strike="noStrike">
                <a:solidFill>
                  <a:srgbClr val="000000"/>
                </a:solidFill>
                <a:latin typeface="Arial"/>
                <a:ea typeface="Arial"/>
              </a:rPr>
              <a:t>  Um im Team eine gute Zusammenarbeit zu gewährleiste empfehlen wir die Telefonnummern auszutausch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6" name=""/>
          <p:cNvSpPr/>
          <p:nvPr/>
        </p:nvSpPr>
        <p:spPr>
          <a:xfrm>
            <a:off x="0" y="-205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7924680" y="133200"/>
            <a:ext cx="914400" cy="56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jekt Weißbrot</a:t>
            </a:r>
            <a:br>
              <a:rPr sz="4400"/>
            </a:br>
            <a:endParaRPr b="0" lang="en-US" sz="4400" spc="-1" strike="noStrike">
              <a:solidFill>
                <a:srgbClr val="000000"/>
              </a:solidFill>
              <a:latin typeface="Times New Roman"/>
            </a:endParaRPr>
          </a:p>
        </p:txBody>
      </p:sp>
      <p:sp>
        <p:nvSpPr>
          <p:cNvPr id="49"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Comic Sans MS"/>
              </a:rPr>
              <a:t>Arbeitsblatt </a:t>
            </a:r>
            <a:endParaRPr b="0" lang="en-US" sz="2800" spc="-1" strike="noStrike">
              <a:solidFill>
                <a:srgbClr val="000000"/>
              </a:solidFill>
              <a:latin typeface="Times New Roman"/>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Comic Sans MS"/>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cc"/>
                </a:solidFill>
                <a:latin typeface="Arial"/>
                <a:ea typeface="Arial"/>
              </a:rPr>
              <a:t>Ziel:</a:t>
            </a:r>
            <a:r>
              <a:rPr b="1" lang="de-DE" sz="2800" spc="-1" strike="noStrike">
                <a:solidFill>
                  <a:srgbClr val="000000"/>
                </a:solidFill>
                <a:latin typeface="Arial"/>
                <a:ea typeface="Arial"/>
              </a:rPr>
              <a:t>  </a:t>
            </a:r>
            <a:r>
              <a:rPr b="1" lang="de-DE" sz="2800" spc="-1" strike="noStrike">
                <a:solidFill>
                  <a:srgbClr val="3333cc"/>
                </a:solidFill>
                <a:latin typeface="Arial"/>
                <a:ea typeface="Arial"/>
              </a:rPr>
              <a:t>Sie erstellen im Team im nächsten </a:t>
            </a:r>
            <a:r>
              <a:rPr b="1" lang="de-DE" sz="2800" spc="-1" strike="noStrike">
                <a:solidFill>
                  <a:srgbClr val="3333cc"/>
                </a:solidFill>
                <a:latin typeface="Arial"/>
                <a:ea typeface="Arial"/>
              </a:rPr>
              <a:t>	</a:t>
            </a:r>
            <a:r>
              <a:rPr b="1" lang="de-DE" sz="2800" spc="-1" strike="noStrike">
                <a:solidFill>
                  <a:srgbClr val="3333cc"/>
                </a:solidFill>
                <a:latin typeface="Arial"/>
                <a:ea typeface="Arial"/>
              </a:rPr>
              <a:t>Unterricht in der Backstube   </a:t>
            </a:r>
            <a:br>
              <a:rPr sz="2800"/>
            </a:br>
            <a:r>
              <a:rPr b="1" lang="de-DE" sz="2800" spc="-1" strike="noStrike">
                <a:solidFill>
                  <a:srgbClr val="3333cc"/>
                </a:solidFill>
                <a:latin typeface="Arial"/>
                <a:ea typeface="Arial"/>
              </a:rPr>
              <a:t>      selbstständig drei freigeschobene </a:t>
            </a:r>
            <a:br>
              <a:rPr sz="2800"/>
            </a:br>
            <a:r>
              <a:rPr b="1" lang="de-DE" sz="2800" spc="-1" strike="noStrike">
                <a:solidFill>
                  <a:srgbClr val="3333cc"/>
                </a:solidFill>
                <a:latin typeface="Arial"/>
                <a:ea typeface="Arial"/>
              </a:rPr>
              <a:t>      Weißbrote (kein Baguette) mit je 500 g </a:t>
            </a:r>
            <a:br>
              <a:rPr sz="2800"/>
            </a:br>
            <a:r>
              <a:rPr b="1" lang="de-DE" sz="2800" spc="-1" strike="noStrike">
                <a:solidFill>
                  <a:srgbClr val="3333cc"/>
                </a:solidFill>
                <a:latin typeface="Arial"/>
                <a:ea typeface="Arial"/>
              </a:rPr>
              <a:t>      Gebäckgewicht.</a:t>
            </a:r>
            <a:r>
              <a:rPr b="1" lang="de-DE" sz="2800" spc="-1" strike="noStrike">
                <a:solidFill>
                  <a:srgbClr val="000000"/>
                </a:solidFill>
                <a:latin typeface="Arial"/>
                <a:ea typeface="Arial"/>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Arial"/>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 name="" descr=""/>
          <p:cNvPicPr/>
          <p:nvPr/>
        </p:nvPicPr>
        <p:blipFill>
          <a:blip r:embed="rId1"/>
          <a:stretch/>
        </p:blipFill>
        <p:spPr>
          <a:xfrm>
            <a:off x="6629400" y="2057400"/>
            <a:ext cx="1905120" cy="118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omic Sans MS"/>
              </a:rPr>
              <a:t>Modell der vollständigen Handlung</a:t>
            </a:r>
            <a:br>
              <a:rPr sz="1600"/>
            </a:br>
            <a:r>
              <a:rPr b="1" lang="de-DE" sz="1600" spc="-1" strike="noStrike">
                <a:solidFill>
                  <a:srgbClr val="000000"/>
                </a:solidFill>
                <a:latin typeface="Comic Sans MS"/>
              </a:rPr>
              <a:t>                                                                  aus Wikipedia</a:t>
            </a:r>
            <a:endParaRPr b="0" lang="en-US" sz="1600" spc="-1" strike="noStrike">
              <a:solidFill>
                <a:srgbClr val="000000"/>
              </a:solidFill>
              <a:latin typeface="Times New Roman"/>
            </a:endParaRPr>
          </a:p>
        </p:txBody>
      </p:sp>
      <p:sp>
        <p:nvSpPr>
          <p:cNvPr id="52"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ieren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tscheid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sführe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ntrollstuf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wertung</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tionen weitergeb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formieren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Arbeitsauftrag Einzelarbeit:</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Informieren Sie sich bis zur nächsten Theoriestunde in Ihrem Betrieb zum Thema Weißbrot (Fachgespräch mit Ausbilder). </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Notieren Sie ein Rezept und alle wichtigen Herstellungshinweise (Knetzeit, Teigtemperatur, Teigruhe, …, Backzeit, Backtemperatur, Schwaden, Zug).</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Im nächsten Theorieunterricht erstellen Sie daraus ein Ablaufschema mit allen Produktionsdaten. Dieses wird benotet.</a:t>
            </a:r>
            <a:endParaRPr b="0" lang="en-US" sz="2800" spc="-1" strike="noStrike">
              <a:solidFill>
                <a:srgbClr val="0000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lanen, Entscheiden</a:t>
            </a:r>
            <a:endParaRPr b="0" lang="en-US" sz="4400" spc="-1" strike="noStrike">
              <a:solidFill>
                <a:srgbClr val="000000"/>
              </a:solidFill>
              <a:latin typeface="Times New Roman"/>
            </a:endParaRPr>
          </a:p>
        </p:txBody>
      </p:sp>
      <p:sp>
        <p:nvSpPr>
          <p:cNvPr id="56" name="PlaceHolder 2"/>
          <p:cNvSpPr>
            <a:spLocks noGrp="1"/>
          </p:cNvSpPr>
          <p:nvPr>
            <p:ph/>
          </p:nvPr>
        </p:nvSpPr>
        <p:spPr>
          <a:xfrm>
            <a:off x="-360" y="1981080"/>
            <a:ext cx="88390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Arbeitsauftrag Gruppenarbei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Einigen Sie sich in Ihrem Team auf ein Reze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Erstellen Sie daraus eine Präsentationsmappe. Diese soll mindestens umfassen: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Namen der Gruppenmitglieder, Projektthema, Herstellungstermi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Rezeptur mit Herstellungshinweise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Fließschem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Die Präsentationsmappe wird benotet</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sführen</a:t>
            </a:r>
            <a:endParaRPr b="0" lang="en-US" sz="4400" spc="-1" strike="noStrike">
              <a:solidFill>
                <a:srgbClr val="000000"/>
              </a:solidFill>
              <a:latin typeface="Times New Roman"/>
            </a:endParaRPr>
          </a:p>
        </p:txBody>
      </p:sp>
      <p:sp>
        <p:nvSpPr>
          <p:cNvPr id="58" name="PlaceHolder 2"/>
          <p:cNvSpPr>
            <a:spLocks noGrp="1"/>
          </p:cNvSpPr>
          <p:nvPr>
            <p:ph/>
          </p:nvPr>
        </p:nvSpPr>
        <p:spPr>
          <a:xfrm>
            <a:off x="0" y="2209680"/>
            <a:ext cx="91440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In der Backstube stellen Sie selbständig im Team die Weißbrote nach Ihren Herstellungshinweisen her. Die Teamarbeit in der Backstube wird benote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In der Backstube sind die üblichen Zutaten einschließlich eines Brotbackmittels vorhanden. Spezielle Zutaten müssen selbst mitgebracht werden.</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6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Kontrollstufe, Bewertung</a:t>
            </a:r>
            <a:endParaRPr b="0" lang="en-US" sz="4400" spc="-1" strike="noStrike">
              <a:solidFill>
                <a:srgbClr val="000000"/>
              </a:solidFill>
              <a:latin typeface="Times New Roman"/>
            </a:endParaRPr>
          </a:p>
        </p:txBody>
      </p:sp>
      <p:sp>
        <p:nvSpPr>
          <p:cNvPr id="60"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cc"/>
                </a:solidFill>
                <a:latin typeface="Arial"/>
                <a:ea typeface="Arial"/>
              </a:rPr>
              <a:t>Auswertung:</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Beurteilen Sie Ihr selbst hergestelltes Weißbrot im Team. Gehen Sie insbesondere auf mögliche Fehler ein (mit Skizze oder Foto). Versuchen Sie die Fehlerursachen zu ermitteln. Halten Sie Fehler und Ursachen schriftlich fest und fügen Sie diese Ausarbeitung Ihrer Präsentationsmappe bei. </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Abschließend  werden Ihre Brote nach dem DLG-Schema bewertet.</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Heften Sie auch das ausgefüllte DLG-Schema in Ihre Präsentationsmap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6:47:19Z</dcterms:created>
  <dc:creator>Leitenberger</dc:creator>
  <dc:description/>
  <dc:language>en-US</dc:language>
  <cp:lastModifiedBy>Leitenberger</cp:lastModifiedBy>
  <dcterms:modified xsi:type="dcterms:W3CDTF">2008-06-01T16:45:12Z</dcterms:modified>
  <cp:revision>14</cp:revision>
  <dc:subject/>
  <dc:title> 8 Literatur  Informieren [Bearbeiten] Der/die Auszubildende soll eine möglichst komplexe Aufgabe bekommen. Um diese Aufgabe zu lösen, muss er sich zuerst die nötigen Informationen beschaffen. Diese Informationsbeschaffung kann er selbstständig ausführen, er kann aber je nach Wissensstand und Erfahrungshorizont von der Lehrkraft angeleitet werden. Er muss sich z. B. fragen: Was ist das Ziel? Was ist das Problem?  Kontrollstufe [Bearbeiten] Hier findet möglichst selbstständig ein Soll-Ist-Vergleich statt. Diese Kontrolle kann als Selbstbewertung, als Bewertung innerhalb der eigenen Arbeitsgruppe oder auch im Klassenverband stattfinden: Ist der Arbeitsauftrag sachgerecht und fachgerecht ausgeführt? Ist das Ziel erreicht? Bewertung [Bearbeiten] Der/die Auszubildende soll das Arbeitsergebnis möglichst selbstständig bewerten. Er/sie soll lernen, seine/ihre eigenen Handlungen zu reflektieren. Er/sie muss sich z. B. fragen: Was kann ich in Zukunft besser machen? Die Bewertung wird auch durch die Lehrkraft erfolgen. Diese müssen aber ihre Kriterien vorher offenlegen und dem Auszubildenden begründen. Informationen weitergeben [Bearbeiten] Damit auch andere Auszubildende etwas lernen, ist es wichtig, dass Informationen weitergegeben werden. </dc:title>
</cp:coreProperties>
</file>